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A40-5E57-4062-A893-AFE502BF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18B-42A9-4B79-AC41-9F3682C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EFB-30AA-4134-89B8-95B4B37F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14C-BFE7-4738-BAF3-F7A54E10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8CFE-A690-4EE7-BA3D-3E40EDA6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4448-D4A8-4C8F-A8AC-5F77DC2E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1CC6-FB37-4E80-9D5B-F36B93D9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8A7E-B660-483B-8329-C57394F7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17BF-4CE5-4D5B-A386-DF23C126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2450-2EF2-46B4-BF9F-FC9F6BFA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6B8B-9074-4897-928B-1283DF2F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A48-4C77-49E7-8EC1-15BC6DD9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D5CF-37E7-46FC-928D-CA17256E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8B2D-2F19-402F-829F-29A627F9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8407-49E7-401A-9DC6-B5D9F392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FE9-FBED-46B6-85A7-C99CE5B8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3290-C972-463B-AC3D-F5BE05E9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230-91B2-420C-A377-9F19F770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019-F2E2-4EBF-825A-E3A6D089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4E9-7A02-4CB8-AC2E-BF7C275E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FA4-81CA-4708-A3BC-A19A1CA5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AA6-0198-442B-9F0D-F233F085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F88-4494-47E9-B778-6BAC1A0B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489-3333-4537-8CF2-58564BF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3BA0-27E4-4CE4-BD1D-CB9BDB40FD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8062200" y="-61200"/>
            <a:ext cx="116532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8013600" y="601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093080" y="5373720"/>
            <a:ext cx="1783800" cy="1246320"/>
            <a:chOff x="7093080" y="5373720"/>
            <a:chExt cx="1783800" cy="1246320"/>
          </a:xfrm>
        </p:grpSpPr>
        <p:sp>
          <p:nvSpPr>
            <p:cNvPr id="9" name=""/>
            <p:cNvSpPr/>
            <p:nvPr/>
          </p:nvSpPr>
          <p:spPr>
            <a:xfrm>
              <a:off x="7122960" y="5397480"/>
              <a:ext cx="172836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07320" y="5519880"/>
              <a:ext cx="11232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116480" y="5824440"/>
              <a:ext cx="125712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289640" y="5878440"/>
              <a:ext cx="83304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854840" y="5440320"/>
              <a:ext cx="21384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02520" y="6442200"/>
              <a:ext cx="12024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885080" y="5559480"/>
              <a:ext cx="30600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45360" y="5532480"/>
              <a:ext cx="57744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35600" y="5695920"/>
              <a:ext cx="24732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093080" y="5373720"/>
              <a:ext cx="1783800" cy="1238400"/>
              <a:chOff x="7093080" y="5373720"/>
              <a:chExt cx="178380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876800" y="5487840"/>
                <a:ext cx="869400" cy="1124280"/>
                <a:chOff x="7876800" y="5487840"/>
                <a:chExt cx="86940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876800" y="5527800"/>
                  <a:ext cx="24912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8094240" y="6400800"/>
                  <a:ext cx="18216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678160" y="5487840"/>
                  <a:ext cx="6804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7205400" y="5757840"/>
                <a:ext cx="94428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497720" y="6002280"/>
                <a:ext cx="38700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981560" y="5675400"/>
                <a:ext cx="16956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093080" y="5373720"/>
                <a:ext cx="1783800" cy="1076400"/>
                <a:chOff x="7093080" y="5373720"/>
                <a:chExt cx="178380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146800" y="6259680"/>
                  <a:ext cx="11880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093080" y="5751360"/>
                  <a:ext cx="133632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52920" y="5818320"/>
                  <a:ext cx="12672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797600" y="5373720"/>
                  <a:ext cx="51084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8002440" y="5627520"/>
                  <a:ext cx="15192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7605360" y="5595840"/>
                  <a:ext cx="30924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8129520" y="5450040"/>
                  <a:ext cx="74736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8223120" y="5557680"/>
                  <a:ext cx="38844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893080" y="2116080"/>
            <a:ext cx="173160" cy="3112920"/>
            <a:chOff x="8893080" y="2116080"/>
            <a:chExt cx="173160" cy="3112920"/>
          </a:xfrm>
        </p:grpSpPr>
        <p:sp>
          <p:nvSpPr>
            <p:cNvPr id="36" name=""/>
            <p:cNvSpPr/>
            <p:nvPr/>
          </p:nvSpPr>
          <p:spPr>
            <a:xfrm flipH="1">
              <a:off x="8893080" y="3592080"/>
              <a:ext cx="146160" cy="16369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920080" y="2116080"/>
              <a:ext cx="146160" cy="18730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449480" y="-177840"/>
            <a:ext cx="2427120" cy="2246760"/>
            <a:chOff x="7449480" y="-177840"/>
            <a:chExt cx="2427120" cy="2246760"/>
          </a:xfrm>
        </p:grpSpPr>
        <p:grpSp>
          <p:nvGrpSpPr>
            <p:cNvPr id="39" name=""/>
            <p:cNvGrpSpPr/>
            <p:nvPr/>
          </p:nvGrpSpPr>
          <p:grpSpPr>
            <a:xfrm>
              <a:off x="7449480" y="-177840"/>
              <a:ext cx="2427120" cy="2246760"/>
              <a:chOff x="7449480" y="-177840"/>
              <a:chExt cx="2427120" cy="224676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898120" y="163260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449480" y="-177840"/>
                <a:ext cx="2427120" cy="2246760"/>
                <a:chOff x="7449480" y="-177840"/>
                <a:chExt cx="2427120" cy="224676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8161560" y="21600"/>
                  <a:ext cx="2426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292240" y="435240"/>
                  <a:ext cx="4269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990920" y="197280"/>
                  <a:ext cx="8013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8061480" y="-120960"/>
                  <a:ext cx="1203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687520" y="133200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617320" y="118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8191440" y="241920"/>
                  <a:ext cx="2869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8133840" y="1339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8008920" y="42480"/>
              <a:ext cx="669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41C7-8986-4239-B357-C7482F77BD3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Identify the sentence structure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y is she so upset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Identify the sentence structure: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me in!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The statement ‘back we went’ is an example of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Write a definition f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nthe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How do you identify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enthe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‘I wandered wearily through the wood’ is an example of what type of narrative voi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‘He stood at the top of the grand staircase surveying the property’ is an example of what type of narrative voi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. Write a definition f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loquial langua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. Write a definition for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gure of spee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. Write a definition for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. Write a definition for 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m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. Write a definition for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sonif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. What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4. What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5. What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9280" y="189000"/>
            <a:ext cx="784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lose Reading Techniques Assess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9:28:18Z</dcterms:created>
  <dc:creator>Gemma Pirie</dc:creator>
  <dc:description/>
  <dc:language>en-US</dc:language>
  <cp:lastModifiedBy>Gemma Pirie</cp:lastModifiedBy>
  <dcterms:modified xsi:type="dcterms:W3CDTF">2006-11-13T12:31:57Z</dcterms:modified>
  <cp:revision>5</cp:revision>
  <dc:subject/>
  <dc:title>Close Reading Quiz</dc:title>
</cp:coreProperties>
</file>